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6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e 22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OAA’s NWS Volcanic Ash Program:  Current Status and Plans for the Futur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91440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hris Strager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WS Alaska Region H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ZAN CWSU support to major jet routes across the Pacific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7" name="Picture 4" descr="air_route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eteorological Impact Statement (MIS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WSU provides first information to controllers immediately following eruption dete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0017968091"/>
          <p:cNvPicPr/>
          <p:nvPr/>
        </p:nvPicPr>
        <p:blipFill>
          <a:blip r:embed="rId1"/>
          <a:srcRect l="15250" t="6573" r="5573" b="11737"/>
          <a:stretch/>
        </p:blipFill>
        <p:spPr>
          <a:xfrm>
            <a:off x="0" y="2432160"/>
            <a:ext cx="7086600" cy="4425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010280" y="2743200"/>
            <a:ext cx="2362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  closely with Anchorage VAAC and Alaska Volcano Observatory (AVO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WS VOLCANIC ASH PROGRAM CHARTER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goals of NWS Volcanic Ash Program listed in Nov 1995 Volcano Management Plan, drafted by the NWS’ Alaska Region HQ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o build effective “operations-based”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other NOAA/NWS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other national a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international volcano program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research and training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UTURE CHALLENGE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gressively pursue upgrades in remote sensing capabilities for NOAA/NWS VAACs, MWOs, CW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system relies on single-channe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mprovements coming in near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channel/hyper-spectral sen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of magnitude” of mor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downlink system to capture (and process) these large data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 new data on NWS operational work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UTURE CHALLENGE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-minute requirem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minutes from detection to w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d by customer…must strive to meet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ize text products to 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ther in Cockpi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al VA SIGMETs, advi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closely with international community to ensure these formats work for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UTURE CHALLENGES (cont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Consistenc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 current with research, operation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down language barriers between VAA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(both NWS and external custom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canic ash forecasting still relatively ne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al forecasters must stay current with new monitoring, forecast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UTURE CHALLENGES (cont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 current research into operational forecasting tools/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collaboration with Federal, private, international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RTNERS (partial listing!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NOA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DIS (Washington VAAC, remote sens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cast Systems Laboratory (F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Ash Coordination Tool (VA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Research Laboratory (Mode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tion Weather Center (Graph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Geological Survey/A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operational relationship with VAAC and CW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s in VA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A/ICA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worldwide VAA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iation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FCB-AA54-49A3-B5C1-E11541102E8C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OAA’s NWS Volcanic Ash Program:  Current Status and Plans for the Futur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91440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VERVIEW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ose that fail to learn from history, are doomed to repeat it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inston Church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10666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s” of NWS Volcanic Ash Program traced back to 1980 eruption of Mt. St. Hel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1" descr="mt_st_helens"/>
          <p:cNvPicPr/>
          <p:nvPr/>
        </p:nvPicPr>
        <p:blipFill>
          <a:blip r:embed="rId1"/>
          <a:stretch/>
        </p:blipFill>
        <p:spPr>
          <a:xfrm>
            <a:off x="0" y="2057400"/>
            <a:ext cx="2765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09680"/>
            <a:ext cx="220968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sh plume reached 90,000 feet in 30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Circled the globe in two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ver 1,000 commercial flights cance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6"/>
          <p:cNvGraphicFramePr/>
          <p:nvPr/>
        </p:nvGraphicFramePr>
        <p:xfrm>
          <a:off x="5257800" y="2133720"/>
          <a:ext cx="388620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133720"/>
                    <a:ext cx="388620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ther significant volcanic eruptions helped shape global volcanic ash program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unggung Volcano, Indonesia (19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747-200 passenger jets heavily damag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:  ICAO’s International Airways Volcano W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t. Pinatubo, Philippines (19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orts covered with up to 6 inches of as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 commercial jets damag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galunggung"/>
          <p:cNvPicPr/>
          <p:nvPr/>
        </p:nvPicPr>
        <p:blipFill>
          <a:blip r:embed="rId1"/>
          <a:stretch/>
        </p:blipFill>
        <p:spPr>
          <a:xfrm>
            <a:off x="5638680" y="1066680"/>
            <a:ext cx="3048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eanwhile, in Alaska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. Redoubt (1989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M 747-400 incident; over $80M in dam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mt spurr"/>
          <p:cNvPicPr/>
          <p:nvPr/>
        </p:nvPicPr>
        <p:blipFill>
          <a:blip r:embed="rId1"/>
          <a:stretch/>
        </p:blipFill>
        <p:spPr>
          <a:xfrm>
            <a:off x="-1447920" y="2438280"/>
            <a:ext cx="6553440" cy="4095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181480" y="27432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. Spurr (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hfall in Anchorage closed airport for several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h cloud disrupted operations across AK, Canada,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at was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nature’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sequence of volcanic ash events…what about the NWS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5: NWS Alaska Aviation Weather Unit (AAWU)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: ICAO established nine worldwide Volcanic Ash Advisory Centers (VAA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horage AK (managed by AAW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 DC (joint effort between NESDIS/NW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8: Responsibility for managing NWS Volcanic Ash Program transferred to NWS Alaska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successful coordination with other agenc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WS VOLCANIC ASH PROGRAM STRUCTURE - TODA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Management:  NWS Alaska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VAACs:  Anchorage and Washington (joint effort with NESD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MWOs:  AAWU, Aviation Weather Center, Honolulu and Guam WF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 Volcanic Ash SIGM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horage Center Weather Service Unit (CWS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with FAA’s Air Route Traffic Contro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ZAN CWSU Area of Responsibility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6622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chorage FIR</a:t>
            </a:r>
            <a:br>
              <a:rPr sz="40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.4 million sq miles/5.18 sq kms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129528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 few words about the CWSU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14:29Z</dcterms:created>
  <dc:creator>Authourized User</dc:creator>
  <dc:description/>
  <dc:language>en-US</dc:language>
  <cp:lastModifiedBy>braun</cp:lastModifiedBy>
  <dcterms:modified xsi:type="dcterms:W3CDTF">2008-08-26T18:19:52Z</dcterms:modified>
  <cp:revision>71</cp:revision>
  <dc:subject/>
  <dc:title>NOAA All Hazards and Weather Network (NAWN)</dc:title>
</cp:coreProperties>
</file>